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807C-25D5-428E-B10F-BD0FCE4D4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B2BE-2CB0-4F62-BD83-423C9ACD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D235-6AC5-4E08-B5C1-053E26986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D814-2452-40C2-96BA-1F2476028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5340-7350-4110-8644-9E14455F2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5F50-5D05-456D-B269-567CA4F7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D01D-D407-4805-B5F0-9294366F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1367-AC9F-419C-B5A3-AADA205C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FCAD-1056-4ECB-89F2-7858ECBD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6180-BFF6-499D-86BA-41916F98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A6B9-F47B-4D1A-AFF8-8168162B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CD2F-B9A9-4EBE-A798-D3362F69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A6E5-01A6-4A15-876A-FB17FAB9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FCFE0-1767-4849-8D32-AC6722F2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4452-601C-4585-AD8E-168E8ED9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3CD9-200E-451D-9C06-6E02049E4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53C2-50E0-4359-B84E-5029B2C08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3C42-C92C-495E-9C93-ACAFC737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C79F-F0F9-4631-9B15-6D9797F0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764D-B310-42D2-86B8-E4254651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28A2-43BD-4FD3-9C86-6AC73ED4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CCB3-6FF3-4929-B1A8-E6139718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94DA-858B-41A9-BBEF-D305D246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F301-6F50-4F29-ADDB-53B4DB96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EEB3-B28D-484C-A425-6451050346D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7FB4-C12D-4509-AA1C-5F664099B8C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lib.uconn.edu/help/askHomer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lib.uconn.edu/using/tutorials/" TargetMode="External"/><Relationship Id="rId2" Type="http://schemas.openxmlformats.org/officeDocument/2006/relationships/hyperlink" Target="http://www.lib.uconn.edu/using/finding/guides/elecref.htm" TargetMode="External"/><Relationship Id="rId3" Type="http://schemas.openxmlformats.org/officeDocument/2006/relationships/hyperlink" Target="http://homerweb.lib.uconn.edu/" TargetMode="External"/><Relationship Id="rId4" Type="http://schemas.openxmlformats.org/officeDocument/2006/relationships/hyperlink" Target="http://www.lib.uconn.edu/online/ejournals" TargetMode="External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jstor.org.ezproxy.lib.uconn.edu/action/showPublication?journalCode=yalefrenstud" TargetMode="External"/><Relationship Id="rId2" Type="http://schemas.openxmlformats.org/officeDocument/2006/relationships/hyperlink" Target="http://www.jstor.org.ezproxy.lib.uconn.edu/action/showPublisher?publisherCode=yale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hslmc2008.wikispaces.com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uconn.edu/" TargetMode="External"/><Relationship Id="rId2" Type="http://schemas.openxmlformats.org/officeDocument/2006/relationships/hyperlink" Target="http://www.lib.uconn.edu/" TargetMode="External"/><Relationship Id="rId3" Type="http://schemas.openxmlformats.org/officeDocument/2006/relationships/hyperlink" Target="http://classguides.lib.uconn.edu/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ibrary Orientati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E.C.E – Spanish - 2009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PANISH GUIDE –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TED:  tabs to resources and Specialty Librarian on righ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883944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neral to Specialized Resourc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arch HOMER, Book catalo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arch Journ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arch Articles and Databa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se the Resources Prepared for you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on TABS to limit or sel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AMPLE: Articles and Databases helps  “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ind databases that have articles, streaming media, and more in the following subjects...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“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on Subjects or Keywor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arch for SPECIFIC if you have 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results are too limited broaden sear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NLINE or In-Person HELP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you are stumped about something, 10 a.m. to 5 p.m., there is help in an online resource called “askHomer Live” which provides you the ability to ask reference questions and get answers in “real time”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o to :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ww.lib.uconn.edu/help/askHom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 CLICK on the Link to your UCONN Specialty Reference Librarian (highlighted on another pag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 COME TO YOUR VERY OWN HIGH SCHOOL LIBRARIAN: Mrs. Fitzgeral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f you want tutorials for Library or UCONN Resources in general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line Library Introduction/Orientation: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ww.lib.uconn.edu/using/tutorials/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ccess to Electronic Information Resources: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www.lib.uconn.edu/using/finding/guides/elecref.htm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mer, the online Catalog: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http://homerweb.lib.uconn.ed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search Database Locator: www.lib.uconn.edu/online/databa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Journals – Locate Electronic Journals: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www.lib.uconn.edu/online/ejourna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509760" y="3578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panish Resour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53452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AMPLE: SPAN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esent-Day Spanish Poetr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cha Zardoy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Yale French Studie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No. 21, Poetry Since the Liberation (1958), pp. 145-153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ublished by: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Yale University Pres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6104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68680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eatures of Note to help you alo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FT MARGIN has links to related subjec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ulti-tasking or saving for later (features you can have it read to you through an MP3 Download if you are going to be on a bus or riding in a ca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int articles or Email them to store them electronicall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ookmark things: example: Bookmark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py the Bookmark URL and paste it into another document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http://find.galegroup.com/gps/infomark.do?contentSet=IAC-Documents&amp;docType=IAC&amp;type=retrieve&amp;tabID=T007&amp;prodId=IPS&amp;docId=A206170769&amp;userGroupName=s1461&amp;version=1.0&amp;source=gale&amp;infoPage=infoMarkPa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eeded to access Information and Technology Services through UCON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tID: eight digit network identifi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ssword:   (you create after entering your activation code for the first tim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pecial Online features to help: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xample: Dictionary defini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561996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42840" y="519120"/>
            <a:ext cx="725832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05880" y="910080"/>
            <a:ext cx="84657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ther Resources of Interest/Use: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EX. </a:t>
            </a: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Platero Y Yo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by Juan Ramon Jimenez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arch People mentioned in article: 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x. Juan Ramon Jimenez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438280" y="1925640"/>
            <a:ext cx="647712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0720" y="333720"/>
            <a:ext cx="847692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Some Primary Sources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such as Newspapers available both through ICONN and UCONN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895320"/>
            <a:ext cx="867744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262080" y="186120"/>
            <a:ext cx="8314200" cy="4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panish Poetry and Juan Ramon Jimenez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6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723960" y="800280"/>
            <a:ext cx="83811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arches may yield only Abstrac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3026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arch Government Docum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deral Docu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line Resour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overnment websites may have spanish information :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http://www.odl.state.ok.us/usinfo/topiclists/us-spanish.ht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62080" y="186120"/>
            <a:ext cx="8390520" cy="4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m General to specific in Spanis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62120" y="295200"/>
            <a:ext cx="731520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ther Spanish Resources: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HS Library has CUMBRE in Encyclopedi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me international newspapers are available in ICONN in spanis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me audio books are available in spanis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HS Library has some Spanish Literature boo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IBRARY RESOURCES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ooks found through Online Catalog called HOMER and WORLDCA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gazines and Periodicals both in print or online or in libraries or through inter-library lo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ectronic resources  including electronic books, journals, newspapers and mo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ederal Docu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for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ps &amp; Aerial Photograph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ideos, CDs, DVDs, Music Scores/Recording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RAP UP  and Ti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 &amp; A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member Library Website for lin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k a Librarian if need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k your teacher for other terminolog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rrific opportunity … great resources… use th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ere to Start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y UCONN Library Home P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ttp://www.lib.uconn.edu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are simple or advance sear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cide on Books, Journals or Medi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ore op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ings to remember: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you borrow from UCONN, do not let anything become overdue, it will be a $95. charge for anything over 28 days and your UCONN account will be flagg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line resources are available also through RHS Subscriptions and State of Connecticut Subscriptions which can be found by going to the RHS Library WIKISPACES PAGE a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rhslmc2008.wikispaces.com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7631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CONN WEBSITE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CONN HOME PAGE: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ww.uconn.ed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brary Page: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www.lib.uconn.ed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ass Guides: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http://classguides.lib.uconn.ed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: Finding Spanish Gu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763120" cy="42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480" y="834120"/>
            <a:ext cx="6636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panish Resources from “Subject Guides”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8836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9:39:36Z</dcterms:created>
  <dc:creator>fitzgeraldj</dc:creator>
  <dc:description/>
  <dc:language>en-US</dc:language>
  <cp:lastModifiedBy>fitzgeraldj</cp:lastModifiedBy>
  <dcterms:modified xsi:type="dcterms:W3CDTF">2009-09-21T20:13:53Z</dcterms:modified>
  <cp:revision>13</cp:revision>
  <dc:subject/>
  <dc:title>Library Orientation</dc:title>
</cp:coreProperties>
</file>